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BDB-CB12-4F5D-8612-59D08711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925-D939-47BB-838A-5D09401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154-E29B-43C6-B1CB-C648756E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E92-B952-4EB3-87F6-65DC7C64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A6B-657A-41E8-B828-5921110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18E-6ED2-4FCF-A71A-F708BBE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F4A-6526-4C0E-B13F-0632AF13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311-137D-4CB5-AFAA-4A69AFA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9DE-87E1-46B3-8311-FFD674F0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17F-DD83-411B-93B0-B1450E9C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8F3-C176-4639-944A-1860A03C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748-DE8D-45FB-B92A-0BBFECD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434-1588-4D6D-9DDA-02F0E109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lskappa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3960" y="8380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erskap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6760" y="15238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arrs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760" y="30481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ha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5000" y="15238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yla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362320"/>
            <a:ext cx="7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1680" y="19051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rv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5720" y="457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j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4680" y="28954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t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6120" y="327672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jar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6480" y="18288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lf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5360" y="40384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orvl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0920" y="533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5320" y="1752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1800" y="266688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920" y="990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72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6600" y="27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16002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200" y="228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Nj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Fjol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0" y="2514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S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60680" y="38098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Ya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5080" y="20574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 Galar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5600" y="31240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all L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800" y="6248520"/>
            <a:ext cx="59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olkie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olkie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juvik – Jarl Olfjor “the Old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oslagen – King Hruthvar Thorgrimson “The Black Bear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jolgrum – Jarl Thorj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drud – Jarl Hrath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Jokkenjoen – Jarl Thorkel “The Wis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jarring – Jarl Njal Stromen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ngarr – Jarl Uldvi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419720"/>
            <a:ext cx="609480" cy="7617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6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7760" y="5181480"/>
            <a:ext cx="156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The Great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5 Days Jour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S-S-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18:57:37Z</dcterms:created>
  <dc:creator>Henry and Kristin</dc:creator>
  <dc:description/>
  <dc:language>en-US</dc:language>
  <cp:lastModifiedBy>Henry and Kristin</cp:lastModifiedBy>
  <dcterms:modified xsi:type="dcterms:W3CDTF">2000-09-01T01:04:11Z</dcterms:modified>
  <cp:revision>2</cp:revision>
  <dc:subject/>
  <dc:title>PowerPoint Presentation</dc:title>
</cp:coreProperties>
</file>