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E58-D7A8-4AB7-93C9-D22C3706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655-35E4-4AC7-AC95-FD7A486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DFE-AD3E-4A52-8ED5-C27205AF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6EA-1A0E-44A9-82F3-8DBFD67B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B37-95FD-439D-BE82-0B156364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3B6-2DE1-4AB7-8CB1-DB74524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D22-9478-4D07-9BD5-2BB6C9B8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93C-C618-4220-B601-0812BBC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A90-7DC6-4B7D-B45B-57BC4E36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886-6A10-4787-8C97-74BFACD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4F0-8760-4EFE-AC81-57A38B4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42E-E5EB-4829-A208-DD94E8D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5F1-B87F-4F44-8D4B-42C4CFA7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lskappa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3960" y="8380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erskap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6760" y="15238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arrs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760" y="3048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ha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5000" y="15238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yla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362320"/>
            <a:ext cx="7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1680" y="19051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rv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5720" y="457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4680" y="2895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t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6120" y="327672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jar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6480" y="18288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lf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5360" y="40384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orvl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0920" y="533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320" y="1752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1800" y="266688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920" y="990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72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6600" y="27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16002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200" y="228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N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Fjol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0" y="2514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S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60680" y="38098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Ya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5080" y="20574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 Galar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5600" y="31240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all L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800" y="6248520"/>
            <a:ext cx="59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olkie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olkie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juvik – Jarl Olfjor “the Old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oslagen – King Hruthvar Thorgrimson “The Black Bear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olgrum – Jarl Thorj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drud – Jarl Hrath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Jokkenjoen – Jarl Thorkel “The Wis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arring – Jarl Njal Stromen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ngarr – Jarl Uldvi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419720"/>
            <a:ext cx="609480" cy="7617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6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7760" y="5181480"/>
            <a:ext cx="15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The Great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5 Days Jour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S-S-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18:57:37Z</dcterms:created>
  <dc:creator>Henry and Kristin</dc:creator>
  <dc:description/>
  <dc:language>en-US</dc:language>
  <cp:lastModifiedBy>Henry and Kristin</cp:lastModifiedBy>
  <dcterms:modified xsi:type="dcterms:W3CDTF">2000-09-01T01:04:11Z</dcterms:modified>
  <cp:revision>2</cp:revision>
  <dc:subject/>
  <dc:title>PowerPoint Presentation</dc:title>
</cp:coreProperties>
</file>